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E85F-FE95-446B-A297-EA46865A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02F6-48C6-4318-910D-3F092FA0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39F3-BAEA-453C-BD31-884309A6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F7D1-BFB3-47D2-A254-FD1433C7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7A8E-2574-4A57-A34B-A29E2957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7CB7-CC2B-4FDC-A0BF-C53E9043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4B2C-9CEB-439B-B453-AA9E838C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3F82-E2BC-41B4-BDD8-AD6DF681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5E09-2BEA-45E8-AAF9-EFE044E4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B966-7278-41CF-B367-9FC66C59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A561-F184-4D3C-9642-6FC11B4B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33F4-E200-44A1-9F55-17781FE6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0A5D-727F-4A35-95AB-7F46A89ED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IS to sec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, Backup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gnetic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loppy disk, 1.4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per disk drive, 120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az drive, 2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ard disk drive, any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agnetic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latively cheap but slow to save &amp; restore files, sequential ac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ptical Drives, CD ROM, (700 mb); DVD, 9 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olid-state drives, USB storage devices; convenient, no moving parts, less chance of breakdown, store 2 gb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, Online back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emote servers via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prise storage systems, use of a storage area network, (SAN) of RAID disks, tapes, CD/DVD-ROM servers, internet back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veillance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acket sniffers, (for internet &amp; ema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agnostic tools monitoring contents of data sent across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Used to monitor email &amp; internet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sktop monitor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e what is on the desk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ll tasks are log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ackers use thes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g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ebservers record every URL accessed, web browsers store webpages, network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veillance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ph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 Tr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files of system lo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accessed modified or cop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rity, Physical security de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kable dis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 or specialised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cables attached to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,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ncry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iphertext, encrypt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e of public ke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ender encrypts message or file using recipient’s public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cipient decrypts using their privat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,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policies &amp;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,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 of a good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sation &amp; permissions on 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 access to a network from outsiders and from insiders to certai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 of hardware and/o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provide protection against viruses &amp; ha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,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-virus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as often a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 for virus sign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Equipment, 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ation based on what you are (Biometr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metrics, human recognition: Physical traits unique to each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metric scanning: whereby biometric measurements are collected and integrated into a computer system. Used for two purpo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ation, “Do I know you”, one-to- many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 “Are you who you claim to be”, 1-1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metrics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etric devi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gerprint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ge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ture 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al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i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metrics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tion based on an intrinsic aspect of a 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intrusive dat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r minimal contact between person and scann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accuracy, high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84720" y="4292640"/>
            <a:ext cx="19717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metrics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; depending on typ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lose physical contact with sc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eptance, intrusiveness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e of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tensive storag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, Swipe C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pe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security within organisation, also hot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ly damaged by magnetic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tolen, little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, Smart C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mart card, embedded microchip which stores and manipulates data, eg. telstra telephone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curity tok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wo-factor authentication; enter a/ct name &amp; p/word and authentication code on security t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lose token can’t access data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, Power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ge prot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S, used in server r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ing System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ndancy through multiple hard drives or fault-tolerant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ndancy through mirror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ndancy through RAID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, Backup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ng systems contain built-in-backup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deciding which device to use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drive or wr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media per MB or 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of support in years to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02:04:38Z</dcterms:created>
  <dc:creator>Kelvin Baird</dc:creator>
  <dc:description/>
  <dc:language>en-US</dc:language>
  <cp:lastModifiedBy>Kelvin Baird</cp:lastModifiedBy>
  <dcterms:modified xsi:type="dcterms:W3CDTF">2007-07-11T03:23:22Z</dcterms:modified>
  <cp:revision>2</cp:revision>
  <dc:subject/>
  <dc:title>Security Measures</dc:title>
</cp:coreProperties>
</file>